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12A6C-31B5-4C81-AB7E-0A0CC2E74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B6BE6-C2CF-46AA-9376-8D24FB3D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50537-A416-43EF-9901-C45239525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97C50-EC46-4EB5-BFFA-B6E27E4E9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7814B-ACA7-4850-B599-BBC5044A9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D3C69-4E9F-4EEC-B068-59F88E4AB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AA58A-A03F-4EC0-A5B0-1709CA8D2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3E8CC-4177-472C-9C68-6144BEF2A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5F9C9-854D-461C-A180-19B429981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AB295-6676-44BF-AC07-A749FCA75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DEA84-55E3-4AF8-BC6C-010339585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9253E-8261-4651-971B-8CC69AAD1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DF878-84EE-48DF-87BB-F09FBE7D9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E257F-C648-4C40-AD0E-58C97993B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2E3D0-B4C8-439F-B5F3-A6CB1F804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97DDE-5830-44C0-B8C5-D32D58A5D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F5196-3BF2-44BE-A921-DB3B0BBC0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6F9F-5CCE-4C4B-BB21-E5DF0E248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6FFFC-CA07-4617-B892-AE88A313D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54A3D-BB53-41CB-8A80-56EED3956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1FC29-6FC7-4F81-AC0A-61061874D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F4B6-802C-4D71-93A7-196554D74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F4D1-B86F-4033-8734-6B8D71A2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1613-8F7C-4F0B-A586-115623EEE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4140-C8A7-473F-B439-4383D0F688EF}"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9EE4-A1CB-41BB-9413-41DA5877587D}"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20840" y="1371600"/>
            <a:ext cx="8229600" cy="240840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Por Richard &amp; Jimm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33488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1000"/>
          </a:bodyPr>
          <a:p>
            <a:pPr marL="498240" indent="-37404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ffffff"/>
                </a:solidFill>
                <a:latin typeface="Book Antiqua"/>
              </a:rPr>
              <a:t>Los conquistadores fueron los Christianos. (cruzadas, 2012) Ellos vinieron de europa. Muchos llegaron de Francia e Inglaterra. Hombres que eran guerreros entrenados en el arte guerra fueron llamados cruzadores. El objeto del conquistador fue para conquistar el tierra santa de y para ser espesifico es Jeruslem. Era controlado por los Muslumanos. Se sucedio en los ano 1099 en el mes de Julio. El lugar donde suscedio el conquista fue en Jeruslem el objetivo del conquistado. El objeto de los conquistadores fue a conquistar todo el tierra santa y mas Jeruslem.Los muslumanos Lperdieron y los crusados fueron exitosos. Los crusados tomaron toda la propiedad de los muslumano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3488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ffffff"/>
                </a:solidFill>
                <a:latin typeface="Book Antiqua"/>
              </a:rPr>
              <a:t>	</a:t>
            </a:r>
            <a:r>
              <a:rPr b="0" lang="es-US" sz="2000" spc="-1" strike="noStrike">
                <a:solidFill>
                  <a:srgbClr val="ffffff"/>
                </a:solidFill>
                <a:latin typeface="Book Antiqua"/>
              </a:rPr>
              <a:t> </a:t>
            </a:r>
            <a:endParaRPr b="0" lang="en-US" sz="2000" spc="-1" strike="noStrike">
              <a:solidFill>
                <a:srgbClr val="ffffff"/>
              </a:solidFill>
              <a:latin typeface="Book Antiqua"/>
            </a:endParaRPr>
          </a:p>
          <a:p>
            <a:pPr marL="13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500" spc="-1" strike="noStrike">
                <a:solidFill>
                  <a:srgbClr val="ffffff"/>
                </a:solidFill>
                <a:latin typeface="Book Antiqua"/>
              </a:rPr>
              <a:t>	</a:t>
            </a:r>
            <a:r>
              <a:rPr b="0" lang="en-US" sz="2500" spc="-1" strike="noStrike">
                <a:solidFill>
                  <a:srgbClr val="ffffff"/>
                </a:solidFill>
                <a:latin typeface="Book Antiqua"/>
              </a:rPr>
              <a:t>Los coquistadores eran mas preparados de los vencidos por muchos razones. Uno es que los guerreros eran entrenados mas que los muslumanos, eso ayudo cuando eran en guerra porque puedian matar a los otros. Cuasando lo a ganar la guerra.Ciudades y pueblos famosos o importantes; Jeruselim el cuidad mas famosos cuando viene de religion. Fue el odjecto del conquistaEl religion de los cruzadores era cristanismo. Un figura religioso para ellos era papa, Los cruzadores eran los primeros creyar el primero que hacer un systema banquerria.Que era muy exitoso y era ususado entre casi todo europa</a:t>
            </a:r>
            <a:br>
              <a:rPr sz="2500"/>
            </a:br>
            <a:endParaRPr b="0" lang="en-US" sz="2500" spc="-1" strike="noStrike">
              <a:solidFill>
                <a:srgbClr val="ffffff"/>
              </a:solidFill>
              <a:latin typeface="Book Antiqua"/>
            </a:endParaRPr>
          </a:p>
          <a:p>
            <a:pPr marL="136440">
              <a:lnSpc>
                <a:spcPct val="80000"/>
              </a:lnSpc>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33488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cho de europa fue controlado por los crusadas. Incluido Jeruslem, el objecto que del conquista.  Los muslumanos perdio todo cuando los cruzadas los conquisto en Jeruslem. Sus casas y cosas asi. Hoy en dia Israel es controlado por si mismo. Los Arebicos estan teniendo guerra contra ellos. Hoy en dia los Arebicos estan peliando contra Israel por que creen que elos no merecen el tierra santa y que ellos no merecen. Tambien hoy en dia los deportes algunos equipos se llaman los Crusados. Un grande juego franquicia se trata de los Crusadas Y es llamado (Assasins Creed)</a:t>
            </a:r>
            <a:br>
              <a:rPr sz="2400"/>
            </a:br>
            <a:r>
              <a:rPr b="0" lang="en-US" sz="2400" spc="-1" strike="noStrike">
                <a:solidFill>
                  <a:srgbClr val="ffffff"/>
                </a:solidFill>
                <a:latin typeface="Book Antiqua"/>
              </a:rPr>
              <a:t>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57200" y="103320"/>
            <a:ext cx="8229600" cy="131760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quista de los dos fue existoso, diciendo que conquistadon todo lo que quirian.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lugar de los conquistas fue en el medio oriente </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vencidos de los Cruzadores eran los Muslumanos. Los vencidos de los Muslumanos eran los Persianos.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objecto de los dos eran diferente el oblecto de los cruzadores era conquistar la tierra santa, el objecto de los Muslumanos fue conquistar los Persiano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7200" y="274680"/>
            <a:ext cx="8229600" cy="133488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lvl="1" marL="585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ffffff"/>
                </a:solidFill>
                <a:latin typeface="Book Antiqua"/>
              </a:rPr>
              <a:t>Hoy en dia hay guerra en el lugar de Jeruselum. Pero hoy el guerra es contra los  judios y los arebicos. Los cruzadores an hicido su marca en el mundo hoy en dia. En los juegos de videos a los depertes. Han influido much alrededor del mundo.</a:t>
            </a:r>
            <a:endParaRPr b="0" lang="en-US" sz="2400" spc="-1" strike="noStrike">
              <a:solidFill>
                <a:srgbClr val="ffffff"/>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95" name="" descr=""/>
          <p:cNvPicPr/>
          <p:nvPr/>
        </p:nvPicPr>
        <p:blipFill>
          <a:blip r:embed="rId1"/>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1T17:34:33Z</dcterms:created>
  <dc:creator>Chicago Public Schools</dc:creator>
  <dc:description/>
  <dc:language>en-US</dc:language>
  <cp:lastModifiedBy>Chicago Public Schools</cp:lastModifiedBy>
  <dcterms:modified xsi:type="dcterms:W3CDTF">2012-03-15T17:07:05Z</dcterms:modified>
  <cp:revision>6</cp:revision>
  <dc:subject/>
  <dc:title>El conquista de los cruzadas</dc:title>
</cp:coreProperties>
</file>